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B2D-D255-4BCD-9763-A1437080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EFA-407B-47A1-9E34-181F5EE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B28-C2D4-4E9D-8B2C-4896DE6F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6B5-4D5F-41B1-B5DE-0123B775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F546-3694-4066-91E6-34F00F71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A1B-E81A-4AD3-8F6F-7E5BF33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E5A-BE91-42AA-9873-978F813E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D08-372D-47B9-9D6B-14E62A9C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4D53-F810-4503-A753-C53C24BB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2303-9FA4-4394-8361-633D590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D4FE-0F02-4A36-90CB-B5A15AB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930-E0A0-43FD-95F4-A59BF865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10EB-F005-47FD-904D-99873C64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D998-11EE-4F89-982A-AB4F714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5896-058B-483C-AEE5-38AF63A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0BF1-DA16-4556-B9FC-85474327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49FD-E98B-4E33-BACB-C3E561F0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9CD-A237-4BB7-A0CC-22265A6C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68A-406F-49F0-9966-94787DDD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C2E-ECC7-4753-A600-EAD87DD8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E6C-BB91-422C-8A9D-5665B7D3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D76-66D2-4317-BC42-DD2DDC9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8CB-E104-4B95-96E3-A0F759F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284-F148-401F-99A7-B72791F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4982-1C00-42EA-BAD9-3076B41568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081-5563-45E1-8C87-9DBEBFBD8A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, ТУРИЗМА И МОЛОДЕЖНОЙ ПОЛИТИКИ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ДЕПАРТАМЕНТ ПО ФИЗИЧЕСКОЙ КУЛЬТУРЕ И СПОРТУ 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ЕДЕРАЦИЯ ЛЕГКОЙ АТЛЕТИКИ КРАСНОДАРСКОГО КРАЯ 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ЮНИОРЫ И ЮНИОРКИ ДО 20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-20.05.2012 год.                                  г. Краснодар ст. «КГА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ЮНИОРЫ И ЮНИОРКИ ДО 20 ЛЕТ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71720"/>
          <a:ext cx="7931160" cy="3419280"/>
        </p:xfrm>
        <a:graphic>
          <a:graphicData uri="http://schemas.openxmlformats.org/drawingml/2006/table">
            <a:tbl>
              <a:tblPr/>
              <a:tblGrid>
                <a:gridCol w="4156200"/>
                <a:gridCol w="2050920"/>
                <a:gridCol w="172404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мандат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ва Н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зьян А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шин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оборуд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информации церемониа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5-20T06:34:20Z</cp:lastPrinted>
  <dcterms:modified xsi:type="dcterms:W3CDTF">2012-05-20T06:35:03Z</dcterms:modified>
  <cp:revision>16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